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9.png" ContentType="image/pn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2A0B-02A7-4567-AEFD-97C0303A1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D140-DBAC-45E1-9B3D-E065875A2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16BF-33FD-498C-AB1C-2B7414D64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0D02-0409-4529-A060-545A8D0B8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25E03-D3DE-4D61-A967-87158261E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04FE3-D6A3-42B7-836B-E61A8A835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F64B1-2884-44D0-9B01-C278B94E5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44146-0501-473A-8A0E-1F83EC069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47332-BE52-4F75-810D-29D8D2F1C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AF9DD-1AEB-4D98-B420-49CB32819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79809-B232-4558-8861-2A39DB049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6780-E746-4F17-BF87-1C559CC25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D1294-1CC2-447C-B291-E42C3DBEB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45F2E-53DF-4955-B2F5-3B5024AFA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4BECB-CF42-4B6D-90F2-83A92BA0A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56D74-B463-491D-80A7-AE6ACC743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84750-7501-4F14-B055-06287209C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847E-417E-4BDD-AC68-2E098CD84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0929-1D26-4C0D-9773-2D7A99BFD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75F9-EB09-4A21-9FF1-959EE1DCA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AA11-2E62-4EBC-8BD5-C9625FB25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216F-D8B5-4C4B-9A66-992DCA021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FDA0-1E94-487C-B2A2-DF3708587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D9AC-E294-4ECC-A00D-29B7F1712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10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62478-49DD-4873-85CF-CDF18FA15B3C}" type="slidenum">
              <a:rPr b="0" lang="ru-RU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10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14575-E37B-4E3F-AE9F-6B5A24910485}" type="slidenum">
              <a:rPr b="0" lang="ru-RU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10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324000" y="1484280"/>
            <a:ext cx="7704000" cy="36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руд.</a:t>
            </a:r>
            <a:endParaRPr b="0" lang="en-US" sz="8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10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10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" descr=""/>
          <p:cNvPicPr/>
          <p:nvPr/>
        </p:nvPicPr>
        <p:blipFill>
          <a:blip r:embed="rId1"/>
          <a:stretch/>
        </p:blipFill>
        <p:spPr>
          <a:xfrm>
            <a:off x="4932360" y="0"/>
            <a:ext cx="4211640" cy="473400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714760" cy="408636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/>
          <p:cNvPicPr/>
          <p:nvPr/>
        </p:nvPicPr>
        <p:blipFill>
          <a:blip r:embed="rId3"/>
          <a:stretch/>
        </p:blipFill>
        <p:spPr>
          <a:xfrm>
            <a:off x="2050920" y="2571840"/>
            <a:ext cx="308628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10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" descr=""/>
          <p:cNvPicPr/>
          <p:nvPr/>
        </p:nvPicPr>
        <p:blipFill>
          <a:blip r:embed="rId1"/>
          <a:stretch/>
        </p:blipFill>
        <p:spPr>
          <a:xfrm>
            <a:off x="5978520" y="0"/>
            <a:ext cx="3165480" cy="422100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17880" cy="393372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3"/>
          <a:stretch/>
        </p:blipFill>
        <p:spPr>
          <a:xfrm>
            <a:off x="2843280" y="1125360"/>
            <a:ext cx="3456000" cy="206064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4"/>
          <a:stretch/>
        </p:blipFill>
        <p:spPr>
          <a:xfrm>
            <a:off x="395280" y="4076640"/>
            <a:ext cx="3959280" cy="228456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5"/>
          <a:stretch/>
        </p:blipFill>
        <p:spPr>
          <a:xfrm>
            <a:off x="4716360" y="3957480"/>
            <a:ext cx="4133880" cy="29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10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3492360" y="1916280"/>
            <a:ext cx="3449880" cy="494172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"/>
          <p:cNvPicPr/>
          <p:nvPr/>
        </p:nvPicPr>
        <p:blipFill>
          <a:blip r:embed="rId2"/>
          <a:stretch/>
        </p:blipFill>
        <p:spPr>
          <a:xfrm>
            <a:off x="6095880" y="0"/>
            <a:ext cx="3048120" cy="389556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503520" cy="44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2T14:32:53Z</dcterms:created>
  <dc:creator>UserXP</dc:creator>
  <dc:description/>
  <dc:language>en-US</dc:language>
  <cp:lastModifiedBy>Студент</cp:lastModifiedBy>
  <dcterms:modified xsi:type="dcterms:W3CDTF">2011-06-15T07:11:59Z</dcterms:modified>
  <cp:revision>1</cp:revision>
  <dc:subject/>
  <dc:title>Слайд 1</dc:title>
</cp:coreProperties>
</file>